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5790B-DFAE-4D3A-8603-174E2D002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9C8F8-DB07-47A4-89CB-5930BB4FE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24B730-2A4C-4403-B471-DD8B8FA89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A41AFD-F151-49EF-A1EB-26CD93232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381924-4464-455B-B7B9-CCE31F74F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E70DD8-985E-4F47-9095-58ACC6A5C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241950-A15A-4DC2-AE41-D4F337B10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8FB264-18E2-4B9F-8500-38D913924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EC2847-EF21-411D-9494-49D1DB049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D5A1CE-F608-4F4E-90C5-DEA815844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3F7504-6C89-4531-AC87-FE631053E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10A451-7640-4F92-BEA7-F382C67E6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117B5-EB9C-40B8-84CE-56721A0F0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06B80A-CA0B-49C5-B823-9DE4239ED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825109-5D2F-42C4-BD1C-ED29FE9E1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FF9F66-59C4-46CB-B811-46B86751D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F8E0A3-167D-4F48-9922-877F170F2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C70CD1-0D44-4213-9651-E2615E19B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D59469-886C-4847-ADFF-C7F657B9A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2EB220-4C67-440A-9698-FF319C2EC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731831-9C11-4551-90F3-B1E694918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EEDE13-A326-4C93-A545-1149CA2CF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53C803-C1C9-4175-B3A8-4565A0971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FA707-2D61-47F2-A4FB-0F02D0A9E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1704B9-4BDA-4941-8796-D750DEF52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4D3997-169A-4A0B-B1A7-419EEB164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3DFE16-1E80-4106-8FA0-A43A5CE35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26B24D-0508-4673-BCAC-23D8332C1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8A932A-B779-4F0C-846C-17F09AA4C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46ADC0-F318-4327-95A1-827B61046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ACF854-D043-4B97-B513-7E95291CF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3DCBC5-7527-4F24-9874-D9E689E0B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1B01C0-D7FE-4E2A-869D-E361B0E41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BA3623-21B7-4BA7-9801-5D533B48E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85ABF-65A9-493D-BB06-0F4497364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2A300A-5A1C-4D2E-B71A-68F94646D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7B6102-2FDA-4A19-905A-8C7FA8DDC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4A3F16-7739-4231-8FDD-27D8844BC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DBF90E-F404-4EC4-BF72-E469340B7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AC5B5F-068F-46FA-A827-F13BF5B69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537C60-0B23-4DB3-857B-4A50360E8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69891A-8239-4842-B4A4-9F7D11A13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F2E799-C980-499E-A358-473EC7A46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E0E6A8-20FA-48FE-8227-DF0005D6E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3BAC70-25A4-452F-9751-73D65DCD4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677EB-0B9C-4249-9282-A5E8E11AC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11ACEA-4469-431A-8977-172927B78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F0D299-1B6E-4B29-89B0-B3A2B3471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1A19C8-C944-4457-B4FC-1D20C464D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73B67D-71E8-4CD1-9042-F1C6C34EF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9CCC43-68D5-4007-B76E-C72CE89CF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324F721-5782-43AF-B446-08BC89CEA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5380AB1-CB1C-4FB2-BF94-449FB9833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587670A-BE31-4FB4-AC49-4C3C5E473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31FC748-171F-42B4-95E1-F144594AF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BD0D2BE-FE6F-459B-8F65-F946668C4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692AB-7D12-4BE2-8206-9E8F3B91C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4C844E8-D281-40FA-B118-4C821C815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27198A0-45DC-4442-95E0-9D91AF2E1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89BA8B3-DBA0-4AF1-9837-B0AD59EB9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8DBC496-D807-4594-9FC6-C468BC64F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0D0828D-C0D7-49FF-AB4B-4B96B382E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4585957-A2E4-4102-BD99-A360ADA15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D9E4D29-2DA2-48CC-98D5-E157B8961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4FE299C-F8FF-4807-B102-F9A39C29A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8646B6A-6540-4175-BB35-14A1C32A3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865E099-AE4A-4BD6-A414-75E4E18F3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C7654-CAC8-4C70-89CF-01721DE94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E1563CB-A03C-4E94-B79F-ED86C2AE4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FE54E5F-9E37-47E1-AAF3-6085BACA7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4DA4175-390F-421B-AFA9-2D0EE2166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A495263-6675-440F-8C8E-62888914C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95AD18A-2095-4923-8F20-3E3347071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B719F60-5CEC-4FE2-B703-53B49E7CF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23C7C8E-BAA5-428A-817F-7A13B4E1C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75DDFDB-BA6B-4CC3-AEF5-6BCE76034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72F0787-2474-4368-B452-80CC7FFAE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C6B564C-914B-4FB4-82C9-FB5AED957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8D9C2-623F-44A1-A148-6DC8ED5A2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78CAC82-5AA1-4EBB-AC1D-026D0A547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19446F4-F950-4686-B697-2CF5EB7C0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802A2EF-91BC-4939-B713-0700AD189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69F704B-0F3A-4674-9045-6E14A47A7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9F7FE29-B39F-47E4-92F2-F5D40A7A7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79D59E1-EECC-4E87-8F41-DC28BF56D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9ED8D6A-01E7-482E-AE50-A71677EBF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CF0E11D-AB9A-4E6B-838A-F03B41278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620008E-3CE8-4C41-9FE4-6F12D0BAC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0DA0635-CCF0-4A54-8346-9334C7B0E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30AAA-5A18-4E49-BF23-C6E955FA4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73E3AD2-E422-41AB-99DF-3CCC8E46C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0CCD762-9B69-4953-B5F5-AEF03EF59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F2D0C6A-0B72-4F66-AFC1-A6EBB5923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625CADF-399A-47F2-9CF8-A0147E085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327E3DA-F551-4BC5-929E-B5A4A0509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6E394C4-EA7F-4BD6-A32A-33888698B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7B0C60D-D2E0-48E9-9431-33FE2904D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2373D2B-7EE5-49B7-8255-79110493F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87D3D24-9501-4EA4-82AA-A450D58BF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14CAB50-6EFD-4087-95F8-F17D72A40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DD9D3-A5CE-45A9-BE17-7AB0CBC0D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220600E-CDCC-4CD8-BA88-4471C5C9C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F088341-9A6B-4B10-AAC9-B4A2A2EFD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CC770F6-8922-4639-BA07-7EF726733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1A2D0EF-7C3B-49FC-BB8F-26BE0C128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6489008-D5FF-4E87-91B6-609B2DDD3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74120B4-8713-4B76-8DFC-63FFAF6DA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756F22E-D5D0-4C49-AF19-825B1C6FA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ED13401-F056-437B-8CCD-44C1EADA9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79B240F-9FEA-4F37-B5C6-DAA04045E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FF36D49-82F1-4B66-A528-CD4D9492D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89CA9-7197-421C-BF3F-B097A0F1E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16A4C-3F09-4985-85E5-B8899B88C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7D3AD96-A740-4259-9796-1959FC8FD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CA33044-2D4B-48FE-B0F3-028E5D638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5FEDC56-29CD-4FFD-9A26-9DEBCDE88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7C7A863-3944-4431-83EB-DD0CC4A9D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975B4F2-CC56-490A-BA72-E57831483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BD1FBD7-3F51-42D6-8D81-0D37AE9BF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11563F0-2A69-409A-B91A-8A0505497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BCBF1F2-6FAD-4B5C-8317-3F031496D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94FEFEF-386B-4957-8A26-8B837AD11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94768A8-AD0B-4E5B-9459-5318EB1E1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85042-2619-4842-9B0E-96C691D36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8BB52DD-B122-4474-B22E-3B1A0D04B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0A02480-D1D6-4F96-9446-620635C23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A27BCE9-DFE4-42D3-8711-FDE8349F3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A5473A0-F72A-4606-B491-178624F65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2B832E1-4926-48A3-9F34-598554A03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E0D048D-2668-42EA-8804-ADE95808B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3A59E47-E9DD-4352-B614-18972F5D6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AA81A51-39DB-4C1E-B40B-0C0A57B36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D8806F3-7DE0-4207-A604-F5F9EE44F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72F7E41-0E80-4010-8C94-03D25B39A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F0B55-602A-4D5F-8DAC-C7963F034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25ECB30-4C00-42EA-AC01-7F261E9BC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9500E93-471F-4F42-A965-BF6BE32C9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1AB4269-AA5D-48DA-8293-B988A7531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EC548E7-4787-4DBB-B750-E8D93DF9D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95D64F0-16FB-4A97-9226-CE492B540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65BA22A-9D7E-461F-914A-32F37EC60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167BA0A-345A-4E73-B0C5-271C75473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482C155-4C50-4725-9C0B-ACC64C1D8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1CBA8C3-B47C-480D-B9CA-D8478A572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5B2ABDB-BF59-4C28-A14E-29E983EC4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8AEDE-5C34-4D6A-B266-28B20A677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7DBBCF0-8459-41C7-A445-A92F436F3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6A23B19-7E5B-44C8-87C6-E3E3E7739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B782EE9-5280-4E61-82DD-68451794B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AEE0D06-BA35-4EC5-86D5-A7325DABD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1C4C477-3037-44AC-B514-85E715174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4F7D192-8219-48C9-A8BC-B03858593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E26B9E8-9586-494B-BCAF-A33D4F2D3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B19310F-F6EB-49BA-AD7F-3BBA7C51D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FDB229E-E8C4-4BA7-B419-D8EF51BBB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455377D-9266-40D0-B54F-4475AF94B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5D3EA-760C-4E9D-BDCF-3BD55C1DB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5AEAA56-1AFE-4446-80A1-1F9683A93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BE9B4C8-5F10-4AF5-AC0E-D4442F84C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F5710DF-4DFC-4730-9B31-110F37069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328B79B-D430-4F25-92CD-E716512F9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71C6CBE-5F3B-428D-B592-389451A1D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508E276-EF36-41D3-8BAD-807DC8C70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F0B4D2A-7A18-4629-8A25-593F9373D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72EBEC1-3480-4F23-99EB-9B05E4164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9D60BFB-B4C7-4DAD-A581-F4091B021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FD335BF-0AE3-4E22-83EC-7A3419643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FE36C0-E0BA-4684-846E-82D50AD0B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3FE302C-8CA4-4912-AEC4-196790F9D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4397B06-B0F4-40A6-A5E6-4845A75B3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98F7C48-503F-4DFC-BD29-7AC4FDBEA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7A6E10-7049-4B3A-826B-9CC0D4B82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74DAF9-02AB-40D6-83E7-B6453C1C3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905250-2104-4498-B6F4-990553CCF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B44A1B-ACCF-4381-B7E6-4A971EF0A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56F64-8622-4465-A51F-3E79E090E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052EB1-A1AD-4F26-8DA1-539F08AEC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1368DF-7510-46E5-834F-F9C59BFB3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6FCDFC-ECEA-496E-BFE2-65195CF9D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67C8FF-EAA0-44D1-876E-603AD8EC3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C4B59C-5838-4F50-A302-AE07E1669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EECC47-6660-4C46-82F3-95D4C70CD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46FC1D-2C12-4076-8345-91854DD99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F4C9F5-6856-47FA-8A20-07A2E9DB6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867E56-FFF7-4CD9-8559-F2C4FB986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A6E66E-E518-4315-8E3F-6CB3780E5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222CA-BBDE-4750-84AB-684CEE930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17036A-A30B-4834-B477-2C2C44EF5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310184-B982-4478-85E6-7D478E0AD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401B41-F709-4737-A59A-35113E44F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201C78-9CC2-4003-AEF9-5ED69505E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A80D68-9888-4CD4-AB3A-6C1691DF9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90449F-C69A-48BD-8125-FCF8C4F76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9B55C5-39B4-4FF2-A5EC-BDF117423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C97F73-453A-4F94-905E-B21A53089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5BE48B-96C5-48FE-B687-10A6F9CC5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4BF392-E0DE-45D1-8F2C-FB845D65C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62E57-3D6A-409C-9635-524D82BFD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D7A9D0-B8E9-4667-A4D3-5199B43A7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B5C929-74E0-4808-94E4-DEDBCAFAA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CAB2D0-0BFA-47A2-9537-8036CE6F0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5ECD98-CC7A-4A65-9FF6-97891C1D5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289C09-11FE-480B-AB07-36E971748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9E3524-DE3C-4EC4-BC1A-722BF86FB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AFD06C-3635-4A26-A76B-4CC6AE01B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900955-CF6E-433F-95A4-59BEE63BD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B451AD-70D3-48B0-866A-664AC24EE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B85560-52E5-4712-85AF-201076B89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DA00C-3107-4AFB-8D13-0DBCE85C9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D151E5-26E2-48E4-BBB0-1EC0C6E28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61C3CC-E115-46FC-A399-98004E537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4A4A6A-83DD-4983-BA26-9145F6FFC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D7E560-F5BC-40EC-9C6A-B47A68C88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ADA1F5-620B-46B9-833F-4B731C4D0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D4EE66-D544-482F-BFEF-314724B83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A70FD9-74F9-4D75-94F3-F7F6EF813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168438-6D3C-4896-9FBC-5B11AD3C8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A744BB-43EC-4E44-82FF-9643011D7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46AE9A-A1EA-4039-B1A4-3D2D15860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CD257-453E-447E-859A-95E94FA8C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936442-7D77-4838-84FD-E2BF98CB3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61B990-9035-4F34-8924-8379698AD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3072B8-587E-4CCE-AC43-C2A77120A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57FAD6-DEFD-4D47-BEE9-05AA2A6B1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4D0AC8-A935-4B4D-AD21-A5A3F6BE0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3BA4B6-48BA-4561-95D5-468B9A866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CC4291-2EF1-4430-BB15-AC39B26B1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498065-1CE4-4F46-BF8A-717ACF430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51E156-A16C-419F-929A-44723758C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A8BD45-C598-428B-A7A5-88B5B5783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0AB6E-D4F4-461C-A526-6C25AE660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004905-1431-4C1D-953A-EE945238D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6B0A70-9478-4E4A-AE9C-EE840EF33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2F8976-D896-4E5C-BACF-C40428EBF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E96529-3F2C-4BE4-87A9-82D950392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704331-8A8B-44D6-BA5D-20E51BDFD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1A4CE3-9D52-4A3D-ADB5-895541FB0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685396-C296-4FB3-87F9-3096B1CFA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0C36E6-1F0A-44B6-8DD0-4520B57AF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8466BB-EBC0-4604-8AA3-051151FE2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AFAA67-64B1-4F85-9772-32DBE11A6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09B20-9786-4053-9BD9-204B6EC33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C6CC56-0215-4F0E-9776-1054AF7C1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2001C8-2ACB-47EA-9334-B6ECAACE6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547CDA-55D6-499C-8E2C-3E3B148E5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456EA4-E01D-4D69-94E7-5821FA7E2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3338D6-4D02-46DF-A278-2B17B9024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B86689-32BC-4B77-9383-AE53A29A7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AF6D0D-9F99-43C6-BEDC-FC680501D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DAC8FE-0B67-49F1-B1D7-F620AC73F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2D725A-7292-4EF8-B315-8C49C9C9E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B75C28-4268-41B4-B7EA-650260A56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8B582-69D8-4937-A42F-6422090E70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B7871-F363-40E5-8BB7-A6F46209744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E6974-7734-4176-AB79-AFE2E839F3C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052D3-72D8-41D6-B703-33847607992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19CB8-679F-41A2-9AF6-E2E92F4E5DC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012E7-FDB0-4598-9169-580070808AF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DA76F-D26A-4992-B983-9240298B44D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73F1B-2AE7-4252-B043-01F0E977A95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6E92D-9EB8-4DDF-911F-D82A1536DCC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AA197-61F4-4CF9-B186-21AA1C8E8A9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2919F-8417-4AFA-8E06-A84896A56B4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07DE4-41AD-4A01-905D-92EE8E9496F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2B756-8B05-4B7C-894B-D492B4BB25E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23E93-9F69-4A54-A977-D5934445386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1E6C5-7B69-4AEB-B0E5-EA494F03D49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1FA39-E4D3-4455-8105-A3645A26B12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9E66E-F353-4E98-A4BB-BAF2511E720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D443B-27A0-4F26-A57A-A40D0FACCD7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F3D0A-2E7C-4D70-B90A-E5483783F45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6E391-3993-4F61-98EA-F7046875C64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32BA8-FBC6-4871-86BF-0C7E60C520C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0A92F-C023-4ABD-9D0F-5B4CE213B0D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099DE-2FDE-427E-997E-EC5DF68F2A2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28D07-4F49-4F73-8CE4-859C454D2CA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82334-881F-40D3-A5C6-1DA07B6BFE5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782BE-B178-4C47-B9F8-BA561A96B60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78C61-175D-40D4-8C66-DC95FB4EB23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020000" y="115920"/>
            <a:ext cx="1944720" cy="6476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6F22C-4232-4B82-83F2-2B4C36E66C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1D0B6-85DF-44AD-904B-7DAE34B495A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7C25D-1015-435C-BCA1-AD8A15B7D29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E4044-118E-4B82-B30C-CF9319F90A1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33102-9E67-44F1-A60D-509D79BF885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C0DAB-FE7A-4AA6-A00D-B53DEA4933B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113FB-EE8D-424D-85C3-4019847F63A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EEA69-F722-4C8C-9E8D-6F4626A4CCD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71FB5-7163-4EA6-B1E1-3444CE926E4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6137C-611D-4322-9470-F7EBF326AAC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FCFB9-E85A-4E25-9663-CE65E2747DF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424BA-BE69-48FE-9C33-2239524910F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6B1E5-A4E9-448B-A43C-F04F5E358EC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4" name="图片 1" descr=""/>
          <p:cNvPicPr/>
          <p:nvPr/>
        </p:nvPicPr>
        <p:blipFill>
          <a:blip r:embed="rId1"/>
          <a:stretch/>
        </p:blipFill>
        <p:spPr>
          <a:xfrm>
            <a:off x="2952720" y="3095640"/>
            <a:ext cx="32385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7" name="Picture 1" descr=""/>
          <p:cNvPicPr/>
          <p:nvPr/>
        </p:nvPicPr>
        <p:blipFill>
          <a:blip r:embed="rId1"/>
          <a:stretch/>
        </p:blipFill>
        <p:spPr>
          <a:xfrm>
            <a:off x="1979640" y="81000"/>
            <a:ext cx="388800" cy="304920"/>
          </a:xfrm>
          <a:prstGeom prst="rect">
            <a:avLst/>
          </a:prstGeom>
          <a:ln w="0">
            <a:noFill/>
          </a:ln>
        </p:spPr>
      </p:pic>
      <p:pic>
        <p:nvPicPr>
          <p:cNvPr id="1028" name="图片 2" descr=""/>
          <p:cNvPicPr/>
          <p:nvPr/>
        </p:nvPicPr>
        <p:blipFill>
          <a:blip r:embed="rId2"/>
          <a:stretch/>
        </p:blipFill>
        <p:spPr>
          <a:xfrm>
            <a:off x="295200" y="3816360"/>
            <a:ext cx="8553600" cy="171432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1" descr=""/>
          <p:cNvPicPr/>
          <p:nvPr/>
        </p:nvPicPr>
        <p:blipFill>
          <a:blip r:embed="rId3"/>
          <a:stretch/>
        </p:blipFill>
        <p:spPr>
          <a:xfrm>
            <a:off x="7956720" y="5157720"/>
            <a:ext cx="502920" cy="44784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1" descr=""/>
          <p:cNvPicPr/>
          <p:nvPr/>
        </p:nvPicPr>
        <p:blipFill>
          <a:blip r:embed="rId4"/>
          <a:stretch/>
        </p:blipFill>
        <p:spPr>
          <a:xfrm>
            <a:off x="2771640" y="515772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1" descr=""/>
          <p:cNvPicPr/>
          <p:nvPr/>
        </p:nvPicPr>
        <p:blipFill>
          <a:blip r:embed="rId5"/>
          <a:stretch/>
        </p:blipFill>
        <p:spPr>
          <a:xfrm>
            <a:off x="4500720" y="5157720"/>
            <a:ext cx="502920" cy="44784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1" descr=""/>
          <p:cNvPicPr/>
          <p:nvPr/>
        </p:nvPicPr>
        <p:blipFill>
          <a:blip r:embed="rId6"/>
          <a:stretch/>
        </p:blipFill>
        <p:spPr>
          <a:xfrm>
            <a:off x="6300720" y="515772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1033" name="Picture 1" descr=""/>
          <p:cNvPicPr/>
          <p:nvPr/>
        </p:nvPicPr>
        <p:blipFill>
          <a:blip r:embed="rId7"/>
          <a:stretch/>
        </p:blipFill>
        <p:spPr>
          <a:xfrm>
            <a:off x="1042920" y="5157720"/>
            <a:ext cx="503280" cy="447840"/>
          </a:xfrm>
          <a:prstGeom prst="rect">
            <a:avLst/>
          </a:prstGeom>
          <a:ln w="0">
            <a:noFill/>
          </a:ln>
        </p:spPr>
      </p:pic>
      <p:grpSp>
        <p:nvGrpSpPr>
          <p:cNvPr id="1034" name="组合 4107"/>
          <p:cNvGrpSpPr/>
          <p:nvPr/>
        </p:nvGrpSpPr>
        <p:grpSpPr>
          <a:xfrm>
            <a:off x="98280" y="1117440"/>
            <a:ext cx="8580600" cy="2426040"/>
            <a:chOff x="98280" y="1117440"/>
            <a:chExt cx="8580600" cy="2426040"/>
          </a:xfrm>
        </p:grpSpPr>
        <p:pic>
          <p:nvPicPr>
            <p:cNvPr id="1035" name="图片 1" descr=""/>
            <p:cNvPicPr/>
            <p:nvPr/>
          </p:nvPicPr>
          <p:blipFill>
            <a:blip r:embed="rId8"/>
            <a:stretch/>
          </p:blipFill>
          <p:spPr>
            <a:xfrm>
              <a:off x="98280" y="1117440"/>
              <a:ext cx="8580600" cy="211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6" name="图片 4106" descr=""/>
            <p:cNvPicPr/>
            <p:nvPr/>
          </p:nvPicPr>
          <p:blipFill>
            <a:blip r:embed="rId9"/>
            <a:stretch/>
          </p:blipFill>
          <p:spPr>
            <a:xfrm>
              <a:off x="566640" y="1557360"/>
              <a:ext cx="7966080" cy="1986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37" name="椭圆 4108"/>
          <p:cNvSpPr/>
          <p:nvPr/>
        </p:nvSpPr>
        <p:spPr>
          <a:xfrm>
            <a:off x="1332000" y="3068640"/>
            <a:ext cx="503280" cy="503280"/>
          </a:xfrm>
          <a:prstGeom prst="ellipse">
            <a:avLst/>
          </a:prstGeom>
          <a:noFill/>
          <a:ln w="93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椭圆 4109"/>
          <p:cNvSpPr/>
          <p:nvPr/>
        </p:nvSpPr>
        <p:spPr>
          <a:xfrm>
            <a:off x="2627280" y="3068640"/>
            <a:ext cx="503280" cy="503280"/>
          </a:xfrm>
          <a:prstGeom prst="ellipse">
            <a:avLst/>
          </a:prstGeom>
          <a:noFill/>
          <a:ln w="93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椭圆 4110"/>
          <p:cNvSpPr/>
          <p:nvPr/>
        </p:nvSpPr>
        <p:spPr>
          <a:xfrm>
            <a:off x="4284720" y="3141720"/>
            <a:ext cx="503280" cy="503280"/>
          </a:xfrm>
          <a:prstGeom prst="ellipse">
            <a:avLst/>
          </a:prstGeom>
          <a:noFill/>
          <a:ln w="93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椭圆 4111"/>
          <p:cNvSpPr/>
          <p:nvPr/>
        </p:nvSpPr>
        <p:spPr>
          <a:xfrm>
            <a:off x="6443640" y="3068640"/>
            <a:ext cx="503280" cy="503280"/>
          </a:xfrm>
          <a:prstGeom prst="ellipse">
            <a:avLst/>
          </a:prstGeom>
          <a:noFill/>
          <a:ln w="93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椭圆 4112"/>
          <p:cNvSpPr/>
          <p:nvPr/>
        </p:nvSpPr>
        <p:spPr>
          <a:xfrm>
            <a:off x="7667640" y="3068640"/>
            <a:ext cx="503280" cy="503280"/>
          </a:xfrm>
          <a:prstGeom prst="ellipse">
            <a:avLst/>
          </a:prstGeom>
          <a:noFill/>
          <a:ln w="93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1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44" name="图片 1" descr=""/>
          <p:cNvPicPr/>
          <p:nvPr/>
        </p:nvPicPr>
        <p:blipFill>
          <a:blip r:embed="rId1"/>
          <a:stretch/>
        </p:blipFill>
        <p:spPr>
          <a:xfrm>
            <a:off x="233280" y="2228760"/>
            <a:ext cx="8675640" cy="2400480"/>
          </a:xfrm>
          <a:prstGeom prst="rect">
            <a:avLst/>
          </a:prstGeom>
          <a:ln w="0">
            <a:noFill/>
          </a:ln>
        </p:spPr>
      </p:pic>
      <p:pic>
        <p:nvPicPr>
          <p:cNvPr id="1045" name="Picture 1" descr=""/>
          <p:cNvPicPr/>
          <p:nvPr/>
        </p:nvPicPr>
        <p:blipFill>
          <a:blip r:embed="rId2"/>
          <a:stretch/>
        </p:blipFill>
        <p:spPr>
          <a:xfrm>
            <a:off x="900000" y="2608200"/>
            <a:ext cx="433440" cy="385920"/>
          </a:xfrm>
          <a:prstGeom prst="rect">
            <a:avLst/>
          </a:prstGeom>
          <a:ln w="0">
            <a:noFill/>
          </a:ln>
        </p:spPr>
      </p:pic>
      <p:pic>
        <p:nvPicPr>
          <p:cNvPr id="1046" name="Picture 1" descr=""/>
          <p:cNvPicPr/>
          <p:nvPr/>
        </p:nvPicPr>
        <p:blipFill>
          <a:blip r:embed="rId3"/>
          <a:stretch/>
        </p:blipFill>
        <p:spPr>
          <a:xfrm>
            <a:off x="855720" y="3054240"/>
            <a:ext cx="433440" cy="385920"/>
          </a:xfrm>
          <a:prstGeom prst="rect">
            <a:avLst/>
          </a:prstGeom>
          <a:ln w="0">
            <a:noFill/>
          </a:ln>
        </p:spPr>
      </p:pic>
      <p:pic>
        <p:nvPicPr>
          <p:cNvPr id="1047" name="Picture 1" descr=""/>
          <p:cNvPicPr/>
          <p:nvPr/>
        </p:nvPicPr>
        <p:blipFill>
          <a:blip r:embed="rId4"/>
          <a:stretch/>
        </p:blipFill>
        <p:spPr>
          <a:xfrm>
            <a:off x="871560" y="3457440"/>
            <a:ext cx="433440" cy="385920"/>
          </a:xfrm>
          <a:prstGeom prst="rect">
            <a:avLst/>
          </a:prstGeom>
          <a:ln w="0">
            <a:noFill/>
          </a:ln>
        </p:spPr>
      </p:pic>
      <p:pic>
        <p:nvPicPr>
          <p:cNvPr id="1048" name="Picture 1" descr=""/>
          <p:cNvPicPr/>
          <p:nvPr/>
        </p:nvPicPr>
        <p:blipFill>
          <a:blip r:embed="rId5"/>
          <a:stretch/>
        </p:blipFill>
        <p:spPr>
          <a:xfrm>
            <a:off x="900000" y="3860640"/>
            <a:ext cx="433440" cy="385920"/>
          </a:xfrm>
          <a:prstGeom prst="rect">
            <a:avLst/>
          </a:prstGeom>
          <a:ln w="0">
            <a:noFill/>
          </a:ln>
        </p:spPr>
      </p:pic>
      <p:pic>
        <p:nvPicPr>
          <p:cNvPr id="1049" name="Picture 1" descr=""/>
          <p:cNvPicPr/>
          <p:nvPr/>
        </p:nvPicPr>
        <p:blipFill>
          <a:blip r:embed="rId6"/>
          <a:stretch/>
        </p:blipFill>
        <p:spPr>
          <a:xfrm>
            <a:off x="900000" y="4249800"/>
            <a:ext cx="433440" cy="38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8" dur="5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3" dur="5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8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3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8" dur="5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52" name="图片 1" descr=""/>
          <p:cNvPicPr/>
          <p:nvPr/>
        </p:nvPicPr>
        <p:blipFill>
          <a:blip r:embed="rId1"/>
          <a:stretch/>
        </p:blipFill>
        <p:spPr>
          <a:xfrm>
            <a:off x="371520" y="2224080"/>
            <a:ext cx="8400960" cy="2409840"/>
          </a:xfrm>
          <a:prstGeom prst="rect">
            <a:avLst/>
          </a:prstGeom>
          <a:ln w="0">
            <a:noFill/>
          </a:ln>
        </p:spPr>
      </p:pic>
      <p:pic>
        <p:nvPicPr>
          <p:cNvPr id="1053" name="Picture 1" descr=""/>
          <p:cNvPicPr/>
          <p:nvPr/>
        </p:nvPicPr>
        <p:blipFill>
          <a:blip r:embed="rId2"/>
          <a:stretch/>
        </p:blipFill>
        <p:spPr>
          <a:xfrm>
            <a:off x="1533600" y="4321080"/>
            <a:ext cx="433440" cy="320760"/>
          </a:xfrm>
          <a:prstGeom prst="rect">
            <a:avLst/>
          </a:prstGeom>
          <a:ln w="0">
            <a:noFill/>
          </a:ln>
        </p:spPr>
      </p:pic>
      <p:pic>
        <p:nvPicPr>
          <p:cNvPr id="1054" name="Picture 1" descr=""/>
          <p:cNvPicPr/>
          <p:nvPr/>
        </p:nvPicPr>
        <p:blipFill>
          <a:blip r:embed="rId3"/>
          <a:stretch/>
        </p:blipFill>
        <p:spPr>
          <a:xfrm>
            <a:off x="3492360" y="4307040"/>
            <a:ext cx="433440" cy="320400"/>
          </a:xfrm>
          <a:prstGeom prst="rect">
            <a:avLst/>
          </a:prstGeom>
          <a:ln w="0">
            <a:noFill/>
          </a:ln>
        </p:spPr>
      </p:pic>
      <p:pic>
        <p:nvPicPr>
          <p:cNvPr id="1055" name="Picture 1" descr=""/>
          <p:cNvPicPr/>
          <p:nvPr/>
        </p:nvPicPr>
        <p:blipFill>
          <a:blip r:embed="rId4"/>
          <a:stretch/>
        </p:blipFill>
        <p:spPr>
          <a:xfrm>
            <a:off x="5219640" y="4307040"/>
            <a:ext cx="433440" cy="320400"/>
          </a:xfrm>
          <a:prstGeom prst="rect">
            <a:avLst/>
          </a:prstGeom>
          <a:ln w="0">
            <a:noFill/>
          </a:ln>
        </p:spPr>
      </p:pic>
      <p:pic>
        <p:nvPicPr>
          <p:cNvPr id="1056" name="Picture 1" descr=""/>
          <p:cNvPicPr/>
          <p:nvPr/>
        </p:nvPicPr>
        <p:blipFill>
          <a:blip r:embed="rId5"/>
          <a:stretch/>
        </p:blipFill>
        <p:spPr>
          <a:xfrm>
            <a:off x="7308720" y="4321080"/>
            <a:ext cx="433440" cy="3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5" dur="5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0" dur="5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5" dur="5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0" dur="5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52:26Z</dcterms:created>
  <dc:creator>未知用户</dc:creator>
  <dc:description/>
  <dc:language>en-US</dc:language>
  <cp:lastModifiedBy>万润仪器贸易公司</cp:lastModifiedBy>
  <dcterms:modified xsi:type="dcterms:W3CDTF">2020-08-14T03:04:40Z</dcterms:modified>
  <cp:revision>389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